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9BB-735A-46E4-BC85-B6921900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354-3DA8-4734-A1DE-EC95577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5F2-DD25-4ADE-A711-5ECB6106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475-2FD4-4D3F-B24C-01321C96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449-6F3B-4D10-94C6-6A8A66A5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B32-BC72-48E9-8EC5-8284B52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D1E-C72B-44CC-87C5-8741683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888-B606-4387-934E-AF93233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67A-DF4D-4408-8D28-BEA0F05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B4B-EABF-45E2-A58F-95A35B2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EE5-81EE-432B-AE55-6223509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1A6-CC6F-497A-B53A-EB4457B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300-CE9D-423D-9482-340842822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9213" r="32565" b="26098"/>
          <a:stretch/>
        </p:blipFill>
        <p:spPr>
          <a:xfrm>
            <a:off x="1066680" y="11430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76" t="9576" r="24098" b="7610"/>
          <a:stretch/>
        </p:blipFill>
        <p:spPr>
          <a:xfrm>
            <a:off x="1295280" y="1066680"/>
            <a:ext cx="678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1295280" y="9907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76212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381" t="1540" r="50510" b="35311"/>
          <a:stretch/>
        </p:blipFill>
        <p:spPr>
          <a:xfrm>
            <a:off x="2362320" y="1066680"/>
            <a:ext cx="50292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2362320" y="4343400"/>
            <a:ext cx="5029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48195" b="23382"/>
          <a:stretch/>
        </p:blipFill>
        <p:spPr>
          <a:xfrm>
            <a:off x="19810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114300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10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06668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1447920" y="990720"/>
            <a:ext cx="6324480" cy="44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1447920" y="5410080"/>
            <a:ext cx="6324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183" t="9350" r="55301" b="57942"/>
          <a:stretch/>
        </p:blipFill>
        <p:spPr>
          <a:xfrm>
            <a:off x="1752480" y="1828800"/>
            <a:ext cx="594360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5808" t="1552" r="23531" b="89886"/>
          <a:stretch/>
        </p:blipFill>
        <p:spPr>
          <a:xfrm>
            <a:off x="2743200" y="609480"/>
            <a:ext cx="403848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57440" y="777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905120" y="137160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2:37Z</dcterms:modified>
  <cp:revision>218</cp:revision>
  <dc:subject/>
  <dc:title>Slide 1</dc:title>
</cp:coreProperties>
</file>